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ACC7-6E44-4E60-B77D-8AFEF264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2C7B-FF25-43F0-B560-6E31740E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C9C5-C658-4ED8-9B3B-F01334BF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3668-FF46-47B2-AC2B-0A94A788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B4B0-7F4D-4B73-887E-5C504C2B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B77F-BEFB-461A-8D64-48143E7E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4525-1EA0-467D-AD7F-0CE86BFD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659E-40D0-4644-A207-FC2D8302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831B-3505-4D09-BD58-CF9FF37A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CA96-D2CD-4CC8-A65A-0A16492E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F74A-D611-4A57-A0C9-C073CC07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E195-7ECD-45CA-8E14-39AC1000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1497-D327-469D-866E-BBF0F68E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ED4A-7341-4CDF-8445-EAA65151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3725-EE31-41EB-9539-BDCB8EA0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28D0-FA3D-4AA2-895B-D10A916F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0324-C61B-4C71-9BE0-6C292952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1063-6778-47D0-85F9-0E615538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DE97-1A61-4D5E-A6D7-CEEECCF8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D618-6F15-4556-8869-1009B89D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4B90-AA3B-48D9-8391-B550D096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2B9D-81BB-4F9E-BA35-9135078B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5210-7FF3-469D-B70A-9026B349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759C-DA58-4BE7-BD14-49A86352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6DE2-45A2-4061-BCAA-C24A87B8B7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360" y="216036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SYMETR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6236-BFD8-4170-A5F5-3D740A5AB8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1898640"/>
            <a:ext cx="778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SYMETRALNA ODCINKA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I DWUSIECZNA KĄ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YMETRALNA ODCIN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06640" y="1222920"/>
            <a:ext cx="73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metralna odcink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jest to prosta prostopadła do odcinka, która przechodzi przez jego środek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ymetralna odcinka jest jedną z jego osi symetrii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546280" y="2664000"/>
          <a:ext cx="3738600" cy="26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2664000"/>
                    <a:ext cx="373860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4572000" y="3203640"/>
            <a:ext cx="3510000" cy="368280"/>
            <a:chOff x="4572000" y="3203640"/>
            <a:chExt cx="3510000" cy="368280"/>
          </a:xfrm>
        </p:grpSpPr>
        <p:sp>
          <p:nvSpPr>
            <p:cNvPr id="101" name=""/>
            <p:cNvSpPr/>
            <p:nvPr/>
          </p:nvSpPr>
          <p:spPr>
            <a:xfrm>
              <a:off x="6507000" y="3203640"/>
              <a:ext cx="157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symetral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4572000" y="3429000"/>
              <a:ext cx="1844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267000" y="5589720"/>
            <a:ext cx="26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|</a:t>
            </a:r>
            <a:r>
              <a:rPr b="1" lang="pl-PL" sz="3600" spc="-1" strike="noStrike">
                <a:solidFill>
                  <a:srgbClr val="009900"/>
                </a:solidFill>
                <a:latin typeface="Arial"/>
              </a:rPr>
              <a:t>AO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|</a:t>
            </a:r>
            <a:r>
              <a:rPr b="1" lang="pl-PL" sz="3600" spc="-1" strike="noStrike">
                <a:solidFill>
                  <a:srgbClr val="0099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|</a:t>
            </a:r>
            <a:r>
              <a:rPr b="1" lang="pl-PL" sz="3600" spc="-1" strike="noStrike">
                <a:solidFill>
                  <a:srgbClr val="009900"/>
                </a:solidFill>
                <a:latin typeface="Arial"/>
              </a:rPr>
              <a:t>OB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DWUSIECZNA 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06640" y="1313280"/>
            <a:ext cx="73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wusieczna kąt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jest to półprosta wychodząca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z wierzchołka kąta i dzieląca go 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wie równe części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951280" y="2438280"/>
          <a:ext cx="3105000" cy="29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1280" y="2438280"/>
                    <a:ext cx="3105000" cy="29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" name=""/>
          <p:cNvGrpSpPr/>
          <p:nvPr/>
        </p:nvGrpSpPr>
        <p:grpSpPr>
          <a:xfrm>
            <a:off x="4797360" y="3429000"/>
            <a:ext cx="4095720" cy="368280"/>
            <a:chOff x="4797360" y="3429000"/>
            <a:chExt cx="4095720" cy="368280"/>
          </a:xfrm>
        </p:grpSpPr>
        <p:sp>
          <p:nvSpPr>
            <p:cNvPr id="111" name=""/>
            <p:cNvSpPr/>
            <p:nvPr/>
          </p:nvSpPr>
          <p:spPr>
            <a:xfrm>
              <a:off x="6732720" y="342900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dwusieczna ką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4797360" y="3654360"/>
              <a:ext cx="1844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951280" y="5589720"/>
            <a:ext cx="35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1" lang="pl-PL" sz="3600" spc="-1" strike="noStrike">
                <a:solidFill>
                  <a:srgbClr val="009900"/>
                </a:solidFill>
                <a:latin typeface="Arial"/>
              </a:rPr>
              <a:t>AOC = </a:t>
            </a:r>
            <a:r>
              <a:rPr b="1" lang="en-US" sz="36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1" lang="pl-PL" sz="3600" spc="-1" strike="noStrike">
                <a:solidFill>
                  <a:srgbClr val="009900"/>
                </a:solidFill>
                <a:latin typeface="Arial"/>
              </a:rPr>
              <a:t>CO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25T00:49:46Z</dcterms:modified>
  <cp:revision>134</cp:revision>
  <dc:subject/>
  <dc:title>Slajd 1</dc:title>
</cp:coreProperties>
</file>